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AA5C-60E4-495D-AB90-D7D832516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467A-B8B5-42DB-B9EF-EFE835DDC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4FA8-6684-448B-B6D8-B50E39093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5F88-6379-427A-A748-87330CAFD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0366-2D28-4B7C-93F7-4DDCB39F8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1898-6555-46F3-B5F2-C97B11AC5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C2BB-6868-44EB-BC27-98FC4E2AB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01EB-33A1-45C8-8B60-D2BDE3E55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34F4-ADD7-4234-B1E5-3C3922584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4FAE-773D-4F97-B30A-0451D0B0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6BE2-1A57-4EBD-929E-3A8E8007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2150-A884-47BD-8052-31A940A0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AC0D5-311B-4FBF-9C21-435E18ABDAB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Четвертое сентября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99640" y="2637000"/>
            <a:ext cx="7272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Орфограммы в корнях слов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5. В каком слове на месте пропуска нужно писать разделительный мягкий знак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Обез_ян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Об_езд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Лит_с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Раз_единит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5. В каком слове на месте пропуска нужно писать разделительный мягкий знак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Обезьян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6.В каком слове на месте пропуска пишется буква о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Ж_рдочк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Солнц_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Ш_ро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Ч_рточк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6.В каком слове на месте пропуска пишется буква о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Шоро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7. Укажите слово, в котором звуков больше, чем бук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Краск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Клочь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Красиво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Коле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7. Укажите слово, в котором звуков больше, чем бук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Коле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8. Укажите слово, в котором ударение падает на первый сло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Каучу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Рапор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Парте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Фарфо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8. Укажите слово, в котором ударение падает на первый сло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Рапор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9. Расставьте знаки препинания и укажите сложное предложе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421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) С самого утра в воздухе кружились игольчатые снежинки но к обеду растаял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) Весна разломала льды понесла их по рекам и разлила свои воды по поля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) Загадочная тишина царит вокруг но настороженное ухо всегда отличит массу звук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) В первый день щенок утащил у хозяина новый сапог и отъел кусок голенищ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9. Расставьте знаки препинания и укажите сложное предложе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421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) С самого утра в воздухе кружились игольчатые снежинки, но к обеду растаял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) Весна разломала льды, понесла их по рекам и разлила свои воды по поля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3) Загадочная тишина царит вокруг, но настороженное ухо всегда отличит массу звук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) В первый день щенок утащил у хозяина новый сапог и отъел кусок голенищ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1. В каком слове написание с "не" слитно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сделал (не)та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мне (не)жарк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много (не)успевающих по математик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никому (не)известный рассказ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Записать в словарь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Ровесни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Сверстни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Печат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Печал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Впечатлени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Бирюзовы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ыборочный диктан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74872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ырастить на окне теплолюбивое растение; миролюбивые животные; расстилаться на лугу; постелить постель; блестящая поверхность; растут в лесу; ложиться на спину; разбираться в технике; располагаться в тени; разложить на кучки; предложить ответ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Запись в словарь корне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833400" y="1989000"/>
            <a:ext cx="747720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Объясните орфограммы-гласные в корнях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Познае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Узнат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Впечатлени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1. В каком слове написание с "не" слитно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много (не)успевающих по математик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2. Укажите глагол в ряду данных сл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сказуемо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безударны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с тобо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6) обозначиш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2. Укажите глагол в ряду данных сл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6) обозначиш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3. Укажите, в каком слове безударная гласная проверяется словом </a:t>
            </a:r>
            <a:r>
              <a:rPr b="1" i="1" lang="ru-RU" sz="3200" spc="-1" strike="noStrike">
                <a:solidFill>
                  <a:srgbClr val="3333cc"/>
                </a:solidFill>
                <a:latin typeface="Monotype Corsiva"/>
              </a:rPr>
              <a:t>г</a:t>
            </a:r>
            <a:r>
              <a:rPr b="1" lang="ru-RU" sz="3200" spc="-1" strike="noStrike">
                <a:solidFill>
                  <a:srgbClr val="3333cc"/>
                </a:solidFill>
                <a:latin typeface="Monotype Corsiva"/>
              </a:rPr>
              <a:t>одный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годово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год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годовалы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годитьс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3. Укажите, в каком слове безударная гласная проверяется словом </a:t>
            </a:r>
            <a:r>
              <a:rPr b="1" i="1" lang="ru-RU" sz="3200" spc="-1" strike="noStrike">
                <a:solidFill>
                  <a:srgbClr val="3333cc"/>
                </a:solidFill>
                <a:latin typeface="Monotype Corsiva"/>
              </a:rPr>
              <a:t>г</a:t>
            </a:r>
            <a:r>
              <a:rPr b="1" lang="ru-RU" sz="3200" spc="-1" strike="noStrike">
                <a:solidFill>
                  <a:srgbClr val="3333cc"/>
                </a:solidFill>
                <a:latin typeface="Monotype Corsiva"/>
              </a:rPr>
              <a:t>одный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годитьс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4. Укажите предложение с однородными подлежащи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) Дождь стучал по крыше, трепал листья в саду, плескался на дворе в лужах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) Пушистый снег закрывает дома, столбы, деревья белой пелено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) На юг улетают журавли, скворцы, грач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4) Подолгу лежит на скатах крыш, на перилах балкона ине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4. Укажите предложение с однородными подлежащи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) На юг улетают журавли, скворцы, грач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LEG</cp:lastModifiedBy>
  <dcterms:modified xsi:type="dcterms:W3CDTF">2003-09-03T12:35:43Z</dcterms:modified>
  <cp:revision>18</cp:revision>
  <dc:subject/>
  <dc:title>PowerPoint Presentation</dc:title>
</cp:coreProperties>
</file>